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8A13-F4E3-4E70-AB3E-C6CA49B847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301A-68A9-4480-B300-EE4D7A0642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CB5E-3BB7-4C96-BC20-541B5B1B05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A22D-4733-4793-9C3B-3EEE1AF0A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958B-A896-4908-B605-D4318B7F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7CEF-1230-4D3C-A92C-39510FA4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5D43-E66A-4119-8827-75500802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2914-D509-41F5-BE53-E2166699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F0B9-9F3C-44A8-8C5B-B9D6576B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4E90-F923-46B0-8CE2-EB33233F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0713-17E4-460D-A062-D7659B5E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5DC7-EF97-4EEE-8C59-32E3D000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562E-687D-441D-8243-F6814211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236C-5523-47F9-AC1E-7DFFC63D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1255-D8BC-421E-B6AB-9A45135A1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D4EE-AA2F-415F-8438-F7CA22F5A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255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7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255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" name="Picture 2" descr="C:\Documents and Settings\jramey\My Documents\My Pictures\WECCOfficialLogo2.jpg"/>
          <p:cNvPicPr/>
          <p:nvPr/>
        </p:nvPicPr>
        <p:blipFill>
          <a:blip r:embed="rId2"/>
          <a:stretch/>
        </p:blipFill>
        <p:spPr>
          <a:xfrm>
            <a:off x="1523880" y="457200"/>
            <a:ext cx="5913720" cy="166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255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255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WECCOfficialLogo2.jpg"/>
          <p:cNvPicPr/>
          <p:nvPr/>
        </p:nvPicPr>
        <p:blipFill>
          <a:blip r:embed="rId2"/>
          <a:srcRect l="0" t="0" r="0" b="3560"/>
          <a:stretch/>
        </p:blipFill>
        <p:spPr>
          <a:xfrm>
            <a:off x="6576840" y="6019920"/>
            <a:ext cx="2414880" cy="67608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152280" y="6324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4325-7F3D-4090-9B0E-31AA4C42894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5"/>
          <p:cNvSpPr/>
          <p:nvPr/>
        </p:nvSpPr>
        <p:spPr>
          <a:xfrm>
            <a:off x="590400" y="1371600"/>
            <a:ext cx="8001000" cy="0"/>
          </a:xfrm>
          <a:prstGeom prst="line">
            <a:avLst/>
          </a:prstGeom>
          <a:ln w="1908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255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255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3"/>
          <p:cNvSpPr/>
          <p:nvPr/>
        </p:nvSpPr>
        <p:spPr>
          <a:xfrm>
            <a:off x="590400" y="1371600"/>
            <a:ext cx="8001000" cy="0"/>
          </a:xfrm>
          <a:prstGeom prst="line">
            <a:avLst/>
          </a:prstGeom>
          <a:ln w="1908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255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MPj03155980000[1]"/>
          <p:cNvPicPr/>
          <p:nvPr/>
        </p:nvPicPr>
        <p:blipFill>
          <a:blip r:embed="rId2"/>
          <a:stretch/>
        </p:blipFill>
        <p:spPr>
          <a:xfrm>
            <a:off x="304920" y="1562040"/>
            <a:ext cx="8485200" cy="4998960"/>
          </a:xfrm>
          <a:prstGeom prst="rect">
            <a:avLst/>
          </a:prstGeom>
          <a:ln w="0">
            <a:noFill/>
          </a:ln>
        </p:spPr>
      </p:pic>
      <p:sp>
        <p:nvSpPr>
          <p:cNvPr id="195" name="Straight Connector 3"/>
          <p:cNvSpPr/>
          <p:nvPr/>
        </p:nvSpPr>
        <p:spPr>
          <a:xfrm>
            <a:off x="590400" y="1371600"/>
            <a:ext cx="8001000" cy="0"/>
          </a:xfrm>
          <a:prstGeom prst="line">
            <a:avLst/>
          </a:prstGeom>
          <a:ln w="1908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255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BF2E-C360-407D-B7B0-45181DAB95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Calibri"/>
              </a:rPr>
              <a:t>CMPLDW</a:t>
            </a:r>
            <a:endParaRPr b="0" i="1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762120" y="5715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March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99"/>
                </a:solidFill>
                <a:latin typeface="Arial Narrow"/>
              </a:rPr>
              <a:t>WECC Composite Load Model (CMPLDW)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3"/>
          <p:cNvSpPr/>
          <p:nvPr/>
        </p:nvSpPr>
        <p:spPr>
          <a:xfrm>
            <a:off x="2057400" y="2666880"/>
            <a:ext cx="0" cy="1598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"/>
          <p:cNvSpPr/>
          <p:nvPr/>
        </p:nvSpPr>
        <p:spPr>
          <a:xfrm>
            <a:off x="6324480" y="175248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5"/>
          <p:cNvSpPr/>
          <p:nvPr/>
        </p:nvSpPr>
        <p:spPr>
          <a:xfrm>
            <a:off x="3124080" y="3276720"/>
            <a:ext cx="3238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6"/>
          <p:cNvSpPr/>
          <p:nvPr/>
        </p:nvSpPr>
        <p:spPr>
          <a:xfrm>
            <a:off x="3657600" y="297180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7"/>
          <p:cNvSpPr/>
          <p:nvPr/>
        </p:nvSpPr>
        <p:spPr>
          <a:xfrm>
            <a:off x="2666880" y="327672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8"/>
          <p:cNvSpPr/>
          <p:nvPr/>
        </p:nvSpPr>
        <p:spPr>
          <a:xfrm flipH="1">
            <a:off x="2666880" y="342900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9"/>
          <p:cNvSpPr/>
          <p:nvPr/>
        </p:nvSpPr>
        <p:spPr>
          <a:xfrm>
            <a:off x="2666880" y="297180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0"/>
          <p:cNvSpPr/>
          <p:nvPr/>
        </p:nvSpPr>
        <p:spPr>
          <a:xfrm flipH="1">
            <a:off x="2666880" y="3124080"/>
            <a:ext cx="1526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1"/>
          <p:cNvSpPr/>
          <p:nvPr/>
        </p:nvSpPr>
        <p:spPr>
          <a:xfrm flipH="1">
            <a:off x="2971440" y="327672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2"/>
          <p:cNvSpPr/>
          <p:nvPr/>
        </p:nvSpPr>
        <p:spPr>
          <a:xfrm>
            <a:off x="2971800" y="342900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3"/>
          <p:cNvSpPr/>
          <p:nvPr/>
        </p:nvSpPr>
        <p:spPr>
          <a:xfrm flipH="1">
            <a:off x="2971440" y="297180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4"/>
          <p:cNvSpPr/>
          <p:nvPr/>
        </p:nvSpPr>
        <p:spPr>
          <a:xfrm>
            <a:off x="2971800" y="31240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5"/>
          <p:cNvSpPr/>
          <p:nvPr/>
        </p:nvSpPr>
        <p:spPr>
          <a:xfrm>
            <a:off x="2081160" y="3276720"/>
            <a:ext cx="585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6"/>
          <p:cNvSpPr/>
          <p:nvPr/>
        </p:nvSpPr>
        <p:spPr>
          <a:xfrm>
            <a:off x="6653160" y="5181480"/>
            <a:ext cx="144792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7"/>
          <p:cNvSpPr/>
          <p:nvPr/>
        </p:nvSpPr>
        <p:spPr>
          <a:xfrm>
            <a:off x="6324480" y="5410080"/>
            <a:ext cx="32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8"/>
          <p:cNvSpPr/>
          <p:nvPr/>
        </p:nvSpPr>
        <p:spPr>
          <a:xfrm>
            <a:off x="3276720" y="37339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9"/>
          <p:cNvSpPr/>
          <p:nvPr/>
        </p:nvSpPr>
        <p:spPr>
          <a:xfrm>
            <a:off x="3276720" y="3733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0"/>
          <p:cNvSpPr/>
          <p:nvPr/>
        </p:nvSpPr>
        <p:spPr>
          <a:xfrm>
            <a:off x="3276720" y="41148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1"/>
          <p:cNvSpPr/>
          <p:nvPr/>
        </p:nvSpPr>
        <p:spPr>
          <a:xfrm>
            <a:off x="3124080" y="4495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2"/>
          <p:cNvSpPr/>
          <p:nvPr/>
        </p:nvSpPr>
        <p:spPr>
          <a:xfrm>
            <a:off x="3048120" y="4114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rc 23"/>
          <p:cNvSpPr/>
          <p:nvPr/>
        </p:nvSpPr>
        <p:spPr>
          <a:xfrm flipV="1">
            <a:off x="3048120" y="3124080"/>
            <a:ext cx="457200" cy="914400"/>
          </a:xfrm>
          <a:custGeom>
            <a:avLst/>
            <a:gdLst/>
            <a:ahLst/>
            <a:rect l="l" t="t" r="r" b="b"/>
            <a:pathLst>
              <a:path fill="none" w="14997" h="21600">
                <a:moveTo>
                  <a:pt x="-1" y="1217"/>
                </a:moveTo>
                <a:cubicBezTo>
                  <a:pt x="2297" y="411"/>
                  <a:pt x="4715" y="-1"/>
                  <a:pt x="7150" y="0"/>
                </a:cubicBezTo>
                <a:cubicBezTo>
                  <a:pt x="9834" y="0"/>
                  <a:pt x="12495" y="500"/>
                  <a:pt x="14997" y="1475"/>
                </a:cubicBezTo>
              </a:path>
              <a:path stroke="0" w="14997" h="21600">
                <a:moveTo>
                  <a:pt x="-1" y="1217"/>
                </a:moveTo>
                <a:cubicBezTo>
                  <a:pt x="2297" y="411"/>
                  <a:pt x="4715" y="-1"/>
                  <a:pt x="7150" y="0"/>
                </a:cubicBezTo>
                <a:cubicBezTo>
                  <a:pt x="9834" y="0"/>
                  <a:pt x="12495" y="500"/>
                  <a:pt x="14997" y="1475"/>
                </a:cubicBezTo>
                <a:lnTo>
                  <a:pt x="7150" y="21600"/>
                </a:lnTo>
                <a:lnTo>
                  <a:pt x="-1" y="1217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4"/>
          <p:cNvSpPr/>
          <p:nvPr/>
        </p:nvSpPr>
        <p:spPr>
          <a:xfrm>
            <a:off x="5867280" y="3276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5"/>
          <p:cNvSpPr/>
          <p:nvPr/>
        </p:nvSpPr>
        <p:spPr>
          <a:xfrm>
            <a:off x="5867280" y="3657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6"/>
          <p:cNvSpPr/>
          <p:nvPr/>
        </p:nvSpPr>
        <p:spPr>
          <a:xfrm>
            <a:off x="5715000" y="4038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7"/>
          <p:cNvSpPr/>
          <p:nvPr/>
        </p:nvSpPr>
        <p:spPr>
          <a:xfrm>
            <a:off x="5638680" y="3657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rc 28"/>
          <p:cNvSpPr/>
          <p:nvPr/>
        </p:nvSpPr>
        <p:spPr>
          <a:xfrm flipV="1">
            <a:off x="5638680" y="2666880"/>
            <a:ext cx="457200" cy="914400"/>
          </a:xfrm>
          <a:custGeom>
            <a:avLst/>
            <a:gdLst/>
            <a:ahLst/>
            <a:rect l="l" t="t" r="r" b="b"/>
            <a:pathLst>
              <a:path fill="none" w="14997" h="21600">
                <a:moveTo>
                  <a:pt x="-1" y="1217"/>
                </a:moveTo>
                <a:cubicBezTo>
                  <a:pt x="2297" y="411"/>
                  <a:pt x="4715" y="-1"/>
                  <a:pt x="7150" y="0"/>
                </a:cubicBezTo>
                <a:cubicBezTo>
                  <a:pt x="9834" y="0"/>
                  <a:pt x="12495" y="500"/>
                  <a:pt x="14997" y="1475"/>
                </a:cubicBezTo>
              </a:path>
              <a:path stroke="0" w="14997" h="21600">
                <a:moveTo>
                  <a:pt x="-1" y="1217"/>
                </a:moveTo>
                <a:cubicBezTo>
                  <a:pt x="2297" y="411"/>
                  <a:pt x="4715" y="-1"/>
                  <a:pt x="7150" y="0"/>
                </a:cubicBezTo>
                <a:cubicBezTo>
                  <a:pt x="9834" y="0"/>
                  <a:pt x="12495" y="500"/>
                  <a:pt x="14997" y="1475"/>
                </a:cubicBezTo>
                <a:lnTo>
                  <a:pt x="7150" y="21600"/>
                </a:lnTo>
                <a:lnTo>
                  <a:pt x="-1" y="1217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9"/>
          <p:cNvSpPr/>
          <p:nvPr/>
        </p:nvSpPr>
        <p:spPr>
          <a:xfrm>
            <a:off x="6324480" y="2209680"/>
            <a:ext cx="34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30"/>
          <p:cNvSpPr/>
          <p:nvPr/>
        </p:nvSpPr>
        <p:spPr>
          <a:xfrm>
            <a:off x="6667560" y="1930320"/>
            <a:ext cx="582480" cy="584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2"/>
          <p:cNvSpPr/>
          <p:nvPr/>
        </p:nvSpPr>
        <p:spPr>
          <a:xfrm>
            <a:off x="6348240" y="2870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33"/>
          <p:cNvSpPr/>
          <p:nvPr/>
        </p:nvSpPr>
        <p:spPr>
          <a:xfrm>
            <a:off x="6653160" y="2590920"/>
            <a:ext cx="582840" cy="583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4"/>
          <p:cNvSpPr/>
          <p:nvPr/>
        </p:nvSpPr>
        <p:spPr>
          <a:xfrm>
            <a:off x="6348240" y="35560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35"/>
          <p:cNvSpPr/>
          <p:nvPr/>
        </p:nvSpPr>
        <p:spPr>
          <a:xfrm>
            <a:off x="6653160" y="3276720"/>
            <a:ext cx="582840" cy="583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6"/>
          <p:cNvSpPr/>
          <p:nvPr/>
        </p:nvSpPr>
        <p:spPr>
          <a:xfrm>
            <a:off x="996840" y="2971800"/>
            <a:ext cx="90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-k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5-k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8-k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7"/>
          <p:cNvSpPr/>
          <p:nvPr/>
        </p:nvSpPr>
        <p:spPr>
          <a:xfrm>
            <a:off x="4114800" y="3276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8"/>
          <p:cNvSpPr/>
          <p:nvPr/>
        </p:nvSpPr>
        <p:spPr>
          <a:xfrm>
            <a:off x="4114800" y="3657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9"/>
          <p:cNvSpPr/>
          <p:nvPr/>
        </p:nvSpPr>
        <p:spPr>
          <a:xfrm>
            <a:off x="3962520" y="4038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0"/>
          <p:cNvSpPr/>
          <p:nvPr/>
        </p:nvSpPr>
        <p:spPr>
          <a:xfrm>
            <a:off x="3886200" y="3657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rc 41"/>
          <p:cNvSpPr/>
          <p:nvPr/>
        </p:nvSpPr>
        <p:spPr>
          <a:xfrm flipV="1">
            <a:off x="3886200" y="2666880"/>
            <a:ext cx="457200" cy="914400"/>
          </a:xfrm>
          <a:custGeom>
            <a:avLst/>
            <a:gdLst/>
            <a:ahLst/>
            <a:rect l="l" t="t" r="r" b="b"/>
            <a:pathLst>
              <a:path fill="none" w="14997" h="21600">
                <a:moveTo>
                  <a:pt x="-1" y="1217"/>
                </a:moveTo>
                <a:cubicBezTo>
                  <a:pt x="2297" y="411"/>
                  <a:pt x="4715" y="-1"/>
                  <a:pt x="7150" y="0"/>
                </a:cubicBezTo>
                <a:cubicBezTo>
                  <a:pt x="9834" y="0"/>
                  <a:pt x="12495" y="500"/>
                  <a:pt x="14997" y="1475"/>
                </a:cubicBezTo>
              </a:path>
              <a:path stroke="0" w="14997" h="21600">
                <a:moveTo>
                  <a:pt x="-1" y="1217"/>
                </a:moveTo>
                <a:cubicBezTo>
                  <a:pt x="2297" y="411"/>
                  <a:pt x="4715" y="-1"/>
                  <a:pt x="7150" y="0"/>
                </a:cubicBezTo>
                <a:cubicBezTo>
                  <a:pt x="9834" y="0"/>
                  <a:pt x="12495" y="500"/>
                  <a:pt x="14997" y="1475"/>
                </a:cubicBezTo>
                <a:lnTo>
                  <a:pt x="7150" y="21600"/>
                </a:lnTo>
                <a:lnTo>
                  <a:pt x="-1" y="1217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2"/>
          <p:cNvSpPr/>
          <p:nvPr/>
        </p:nvSpPr>
        <p:spPr>
          <a:xfrm>
            <a:off x="6615000" y="5867280"/>
            <a:ext cx="144792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43"/>
          <p:cNvSpPr/>
          <p:nvPr/>
        </p:nvSpPr>
        <p:spPr>
          <a:xfrm>
            <a:off x="6324480" y="6095880"/>
            <a:ext cx="290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51"/>
          <p:cNvSpPr/>
          <p:nvPr/>
        </p:nvSpPr>
        <p:spPr>
          <a:xfrm>
            <a:off x="6324480" y="44956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52"/>
          <p:cNvSpPr/>
          <p:nvPr/>
        </p:nvSpPr>
        <p:spPr>
          <a:xfrm>
            <a:off x="6629400" y="4038480"/>
            <a:ext cx="952560" cy="91440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53"/>
          <p:cNvSpPr/>
          <p:nvPr/>
        </p:nvSpPr>
        <p:spPr>
          <a:xfrm flipV="1">
            <a:off x="2438280" y="2971440"/>
            <a:ext cx="91440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"/>
          <p:cNvSpPr/>
          <p:nvPr/>
        </p:nvSpPr>
        <p:spPr>
          <a:xfrm>
            <a:off x="6807960" y="4265640"/>
            <a:ext cx="5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6"/>
          <p:cNvSpPr/>
          <p:nvPr/>
        </p:nvSpPr>
        <p:spPr>
          <a:xfrm>
            <a:off x="3173040" y="23256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-k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8-k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4495680" y="3174840"/>
            <a:ext cx="914400" cy="17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6"/>
          <p:cNvSpPr/>
          <p:nvPr/>
        </p:nvSpPr>
        <p:spPr>
          <a:xfrm>
            <a:off x="838080" y="4724280"/>
            <a:ext cx="106704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V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7"/>
          <p:cNvSpPr/>
          <p:nvPr/>
        </p:nvSpPr>
        <p:spPr>
          <a:xfrm>
            <a:off x="838080" y="5257800"/>
            <a:ext cx="106704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F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48"/>
          <p:cNvSpPr/>
          <p:nvPr/>
        </p:nvSpPr>
        <p:spPr>
          <a:xfrm flipV="1">
            <a:off x="1295280" y="4038120"/>
            <a:ext cx="5335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49"/>
          <p:cNvSpPr/>
          <p:nvPr/>
        </p:nvSpPr>
        <p:spPr>
          <a:xfrm flipV="1" rot="10800000">
            <a:off x="1828800" y="3961440"/>
            <a:ext cx="457200" cy="152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99"/>
                </a:solidFill>
                <a:latin typeface="Arial Narrow"/>
              </a:rPr>
              <a:t>Composite</a:t>
            </a:r>
            <a:r>
              <a:rPr b="0" i="1" lang="en-US" sz="4000" spc="-1" strike="noStrike">
                <a:solidFill>
                  <a:srgbClr val="000099"/>
                </a:solidFill>
                <a:latin typeface="Arial Narrow"/>
              </a:rPr>
              <a:t> Load Model Data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"/>
          <p:cNvSpPr/>
          <p:nvPr/>
        </p:nvSpPr>
        <p:spPr>
          <a:xfrm>
            <a:off x="1295280" y="2819520"/>
            <a:ext cx="0" cy="1218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"/>
          <p:cNvSpPr/>
          <p:nvPr/>
        </p:nvSpPr>
        <p:spPr>
          <a:xfrm>
            <a:off x="5181480" y="190512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5"/>
          <p:cNvSpPr/>
          <p:nvPr/>
        </p:nvSpPr>
        <p:spPr>
          <a:xfrm>
            <a:off x="2362320" y="3429000"/>
            <a:ext cx="285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6"/>
          <p:cNvSpPr/>
          <p:nvPr/>
        </p:nvSpPr>
        <p:spPr>
          <a:xfrm>
            <a:off x="2895480" y="28195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7"/>
          <p:cNvSpPr/>
          <p:nvPr/>
        </p:nvSpPr>
        <p:spPr>
          <a:xfrm>
            <a:off x="1905120" y="342900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8"/>
          <p:cNvSpPr/>
          <p:nvPr/>
        </p:nvSpPr>
        <p:spPr>
          <a:xfrm flipH="1">
            <a:off x="1904760" y="35812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9"/>
          <p:cNvSpPr/>
          <p:nvPr/>
        </p:nvSpPr>
        <p:spPr>
          <a:xfrm>
            <a:off x="1905120" y="31240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0"/>
          <p:cNvSpPr/>
          <p:nvPr/>
        </p:nvSpPr>
        <p:spPr>
          <a:xfrm flipH="1">
            <a:off x="1904760" y="327672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1"/>
          <p:cNvSpPr/>
          <p:nvPr/>
        </p:nvSpPr>
        <p:spPr>
          <a:xfrm flipH="1">
            <a:off x="2209680" y="342900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2"/>
          <p:cNvSpPr/>
          <p:nvPr/>
        </p:nvSpPr>
        <p:spPr>
          <a:xfrm>
            <a:off x="2209680" y="3581280"/>
            <a:ext cx="1526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3"/>
          <p:cNvSpPr/>
          <p:nvPr/>
        </p:nvSpPr>
        <p:spPr>
          <a:xfrm flipH="1">
            <a:off x="2209680" y="3124080"/>
            <a:ext cx="1526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4"/>
          <p:cNvSpPr/>
          <p:nvPr/>
        </p:nvSpPr>
        <p:spPr>
          <a:xfrm>
            <a:off x="2209680" y="327672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5"/>
          <p:cNvSpPr/>
          <p:nvPr/>
        </p:nvSpPr>
        <p:spPr>
          <a:xfrm>
            <a:off x="1319040" y="3429000"/>
            <a:ext cx="586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6"/>
          <p:cNvSpPr/>
          <p:nvPr/>
        </p:nvSpPr>
        <p:spPr>
          <a:xfrm>
            <a:off x="5510160" y="5334120"/>
            <a:ext cx="144792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7"/>
          <p:cNvSpPr/>
          <p:nvPr/>
        </p:nvSpPr>
        <p:spPr>
          <a:xfrm>
            <a:off x="5181480" y="5562720"/>
            <a:ext cx="32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8"/>
          <p:cNvSpPr/>
          <p:nvPr/>
        </p:nvSpPr>
        <p:spPr>
          <a:xfrm>
            <a:off x="2514600" y="38862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9"/>
          <p:cNvSpPr/>
          <p:nvPr/>
        </p:nvSpPr>
        <p:spPr>
          <a:xfrm>
            <a:off x="2514600" y="3886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0"/>
          <p:cNvSpPr/>
          <p:nvPr/>
        </p:nvSpPr>
        <p:spPr>
          <a:xfrm>
            <a:off x="2514600" y="42670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1"/>
          <p:cNvSpPr/>
          <p:nvPr/>
        </p:nvSpPr>
        <p:spPr>
          <a:xfrm>
            <a:off x="2362320" y="4648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2"/>
          <p:cNvSpPr/>
          <p:nvPr/>
        </p:nvSpPr>
        <p:spPr>
          <a:xfrm>
            <a:off x="2286000" y="4267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rc 23"/>
          <p:cNvSpPr/>
          <p:nvPr/>
        </p:nvSpPr>
        <p:spPr>
          <a:xfrm flipV="1">
            <a:off x="2286000" y="3276720"/>
            <a:ext cx="457200" cy="914400"/>
          </a:xfrm>
          <a:custGeom>
            <a:avLst/>
            <a:gdLst/>
            <a:ahLst/>
            <a:rect l="l" t="t" r="r" b="b"/>
            <a:pathLst>
              <a:path fill="none" w="14997" h="21600">
                <a:moveTo>
                  <a:pt x="-1" y="1217"/>
                </a:moveTo>
                <a:cubicBezTo>
                  <a:pt x="2297" y="411"/>
                  <a:pt x="4715" y="-1"/>
                  <a:pt x="7150" y="0"/>
                </a:cubicBezTo>
                <a:cubicBezTo>
                  <a:pt x="9834" y="0"/>
                  <a:pt x="12495" y="500"/>
                  <a:pt x="14997" y="1475"/>
                </a:cubicBezTo>
              </a:path>
              <a:path stroke="0" w="14997" h="21600">
                <a:moveTo>
                  <a:pt x="-1" y="1217"/>
                </a:moveTo>
                <a:cubicBezTo>
                  <a:pt x="2297" y="411"/>
                  <a:pt x="4715" y="-1"/>
                  <a:pt x="7150" y="0"/>
                </a:cubicBezTo>
                <a:cubicBezTo>
                  <a:pt x="9834" y="0"/>
                  <a:pt x="12495" y="500"/>
                  <a:pt x="14997" y="1475"/>
                </a:cubicBezTo>
                <a:lnTo>
                  <a:pt x="7150" y="21600"/>
                </a:lnTo>
                <a:lnTo>
                  <a:pt x="-1" y="1217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4"/>
          <p:cNvSpPr/>
          <p:nvPr/>
        </p:nvSpPr>
        <p:spPr>
          <a:xfrm>
            <a:off x="4724280" y="3429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25"/>
          <p:cNvSpPr/>
          <p:nvPr/>
        </p:nvSpPr>
        <p:spPr>
          <a:xfrm>
            <a:off x="4724280" y="38098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>
            <a:off x="4572000" y="41911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27"/>
          <p:cNvSpPr/>
          <p:nvPr/>
        </p:nvSpPr>
        <p:spPr>
          <a:xfrm>
            <a:off x="4495680" y="3809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rc 28"/>
          <p:cNvSpPr/>
          <p:nvPr/>
        </p:nvSpPr>
        <p:spPr>
          <a:xfrm flipV="1">
            <a:off x="4495680" y="2819520"/>
            <a:ext cx="457200" cy="914400"/>
          </a:xfrm>
          <a:custGeom>
            <a:avLst/>
            <a:gdLst/>
            <a:ahLst/>
            <a:rect l="l" t="t" r="r" b="b"/>
            <a:pathLst>
              <a:path fill="none" w="14997" h="21600">
                <a:moveTo>
                  <a:pt x="-1" y="1217"/>
                </a:moveTo>
                <a:cubicBezTo>
                  <a:pt x="2297" y="411"/>
                  <a:pt x="4715" y="-1"/>
                  <a:pt x="7150" y="0"/>
                </a:cubicBezTo>
                <a:cubicBezTo>
                  <a:pt x="9834" y="0"/>
                  <a:pt x="12495" y="500"/>
                  <a:pt x="14997" y="1475"/>
                </a:cubicBezTo>
              </a:path>
              <a:path stroke="0" w="14997" h="21600">
                <a:moveTo>
                  <a:pt x="-1" y="1217"/>
                </a:moveTo>
                <a:cubicBezTo>
                  <a:pt x="2297" y="411"/>
                  <a:pt x="4715" y="-1"/>
                  <a:pt x="7150" y="0"/>
                </a:cubicBezTo>
                <a:cubicBezTo>
                  <a:pt x="9834" y="0"/>
                  <a:pt x="12495" y="500"/>
                  <a:pt x="14997" y="1475"/>
                </a:cubicBezTo>
                <a:lnTo>
                  <a:pt x="7150" y="21600"/>
                </a:lnTo>
                <a:lnTo>
                  <a:pt x="-1" y="1217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9"/>
          <p:cNvSpPr/>
          <p:nvPr/>
        </p:nvSpPr>
        <p:spPr>
          <a:xfrm>
            <a:off x="5181480" y="2362320"/>
            <a:ext cx="34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30"/>
          <p:cNvSpPr/>
          <p:nvPr/>
        </p:nvSpPr>
        <p:spPr>
          <a:xfrm>
            <a:off x="5524560" y="2082960"/>
            <a:ext cx="582480" cy="583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1"/>
          <p:cNvSpPr/>
          <p:nvPr/>
        </p:nvSpPr>
        <p:spPr>
          <a:xfrm>
            <a:off x="7468200" y="3656160"/>
            <a:ext cx="157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Arial"/>
              </a:rPr>
              <a:t>Load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Arial"/>
              </a:rPr>
              <a:t>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2"/>
          <p:cNvSpPr/>
          <p:nvPr/>
        </p:nvSpPr>
        <p:spPr>
          <a:xfrm>
            <a:off x="5205240" y="30225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33"/>
          <p:cNvSpPr/>
          <p:nvPr/>
        </p:nvSpPr>
        <p:spPr>
          <a:xfrm>
            <a:off x="5510160" y="2743200"/>
            <a:ext cx="582840" cy="584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34"/>
          <p:cNvSpPr/>
          <p:nvPr/>
        </p:nvSpPr>
        <p:spPr>
          <a:xfrm>
            <a:off x="5205240" y="3708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35"/>
          <p:cNvSpPr/>
          <p:nvPr/>
        </p:nvSpPr>
        <p:spPr>
          <a:xfrm>
            <a:off x="5510160" y="3429000"/>
            <a:ext cx="582840" cy="584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6"/>
          <p:cNvSpPr/>
          <p:nvPr/>
        </p:nvSpPr>
        <p:spPr>
          <a:xfrm>
            <a:off x="230760" y="3124080"/>
            <a:ext cx="9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5-k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0-k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37"/>
          <p:cNvSpPr/>
          <p:nvPr/>
        </p:nvSpPr>
        <p:spPr>
          <a:xfrm>
            <a:off x="3352680" y="3429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38"/>
          <p:cNvSpPr/>
          <p:nvPr/>
        </p:nvSpPr>
        <p:spPr>
          <a:xfrm>
            <a:off x="3352680" y="38098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9"/>
          <p:cNvSpPr/>
          <p:nvPr/>
        </p:nvSpPr>
        <p:spPr>
          <a:xfrm>
            <a:off x="3200400" y="41911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40"/>
          <p:cNvSpPr/>
          <p:nvPr/>
        </p:nvSpPr>
        <p:spPr>
          <a:xfrm>
            <a:off x="3124080" y="3809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rc 41"/>
          <p:cNvSpPr/>
          <p:nvPr/>
        </p:nvSpPr>
        <p:spPr>
          <a:xfrm flipV="1">
            <a:off x="3124080" y="2819520"/>
            <a:ext cx="457200" cy="914400"/>
          </a:xfrm>
          <a:custGeom>
            <a:avLst/>
            <a:gdLst/>
            <a:ahLst/>
            <a:rect l="l" t="t" r="r" b="b"/>
            <a:pathLst>
              <a:path fill="none" w="14997" h="21600">
                <a:moveTo>
                  <a:pt x="-1" y="1217"/>
                </a:moveTo>
                <a:cubicBezTo>
                  <a:pt x="2297" y="411"/>
                  <a:pt x="4715" y="-1"/>
                  <a:pt x="7150" y="0"/>
                </a:cubicBezTo>
                <a:cubicBezTo>
                  <a:pt x="9834" y="0"/>
                  <a:pt x="12495" y="500"/>
                  <a:pt x="14997" y="1475"/>
                </a:cubicBezTo>
              </a:path>
              <a:path stroke="0" w="14997" h="21600">
                <a:moveTo>
                  <a:pt x="-1" y="1217"/>
                </a:moveTo>
                <a:cubicBezTo>
                  <a:pt x="2297" y="411"/>
                  <a:pt x="4715" y="-1"/>
                  <a:pt x="7150" y="0"/>
                </a:cubicBezTo>
                <a:cubicBezTo>
                  <a:pt x="9834" y="0"/>
                  <a:pt x="12495" y="500"/>
                  <a:pt x="14997" y="1475"/>
                </a:cubicBezTo>
                <a:lnTo>
                  <a:pt x="7150" y="21600"/>
                </a:lnTo>
                <a:lnTo>
                  <a:pt x="-1" y="1217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2"/>
          <p:cNvSpPr/>
          <p:nvPr/>
        </p:nvSpPr>
        <p:spPr>
          <a:xfrm>
            <a:off x="5472000" y="6019920"/>
            <a:ext cx="144792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43"/>
          <p:cNvSpPr/>
          <p:nvPr/>
        </p:nvSpPr>
        <p:spPr>
          <a:xfrm>
            <a:off x="5181480" y="6248520"/>
            <a:ext cx="290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44"/>
          <p:cNvSpPr/>
          <p:nvPr/>
        </p:nvSpPr>
        <p:spPr>
          <a:xfrm flipH="1">
            <a:off x="7146360" y="2209680"/>
            <a:ext cx="228600" cy="4267440"/>
          </a:xfrm>
          <a:custGeom>
            <a:avLst/>
            <a:gdLst>
              <a:gd name="textAreaLeft" fmla="*/ 145800 w 228600"/>
              <a:gd name="textAreaRight" fmla="*/ 228600 w 228600"/>
              <a:gd name="textAreaTop" fmla="*/ 111240 h 4267440"/>
              <a:gd name="textAreaBottom" fmla="*/ 4156200 h 426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800"/>
                </a:lnTo>
                <a:cubicBezTo>
                  <a:pt x="10800" y="8700"/>
                  <a:pt x="5400" y="9600"/>
                  <a:pt x="0" y="9600"/>
                </a:cubicBezTo>
                <a:cubicBezTo>
                  <a:pt x="5400" y="9600"/>
                  <a:pt x="10800" y="10500"/>
                  <a:pt x="10800" y="114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45"/>
          <p:cNvSpPr/>
          <p:nvPr/>
        </p:nvSpPr>
        <p:spPr>
          <a:xfrm>
            <a:off x="6782040" y="1219320"/>
            <a:ext cx="206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Arial"/>
              </a:rPr>
              <a:t>Load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6"/>
          <p:cNvSpPr/>
          <p:nvPr/>
        </p:nvSpPr>
        <p:spPr>
          <a:xfrm flipH="1">
            <a:off x="6095520" y="160020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47"/>
          <p:cNvSpPr/>
          <p:nvPr/>
        </p:nvSpPr>
        <p:spPr>
          <a:xfrm flipH="1">
            <a:off x="6095520" y="1905120"/>
            <a:ext cx="685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48"/>
          <p:cNvSpPr/>
          <p:nvPr/>
        </p:nvSpPr>
        <p:spPr>
          <a:xfrm flipH="1" rot="16200000">
            <a:off x="2933640" y="114120"/>
            <a:ext cx="228600" cy="4114800"/>
          </a:xfrm>
          <a:custGeom>
            <a:avLst/>
            <a:gdLst>
              <a:gd name="textAreaLeft" fmla="*/ 145800 w 228600"/>
              <a:gd name="textAreaRight" fmla="*/ 228600 w 22860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800"/>
                </a:lnTo>
                <a:cubicBezTo>
                  <a:pt x="10800" y="8700"/>
                  <a:pt x="5400" y="9600"/>
                  <a:pt x="0" y="9600"/>
                </a:cubicBezTo>
                <a:cubicBezTo>
                  <a:pt x="5400" y="9600"/>
                  <a:pt x="10800" y="10500"/>
                  <a:pt x="10800" y="114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9"/>
          <p:cNvSpPr/>
          <p:nvPr/>
        </p:nvSpPr>
        <p:spPr>
          <a:xfrm>
            <a:off x="1219320" y="146196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Arial"/>
              </a:rPr>
              <a:t>Distribution Equivalen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0"/>
          <p:cNvSpPr/>
          <p:nvPr/>
        </p:nvSpPr>
        <p:spPr>
          <a:xfrm>
            <a:off x="380880" y="51814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Arial"/>
              </a:rPr>
              <a:t>UVLS and UFLS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1"/>
          <p:cNvSpPr/>
          <p:nvPr/>
        </p:nvSpPr>
        <p:spPr>
          <a:xfrm>
            <a:off x="5181480" y="44704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52"/>
          <p:cNvSpPr/>
          <p:nvPr/>
        </p:nvSpPr>
        <p:spPr>
          <a:xfrm>
            <a:off x="5486400" y="4191120"/>
            <a:ext cx="582480" cy="583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53"/>
          <p:cNvSpPr/>
          <p:nvPr/>
        </p:nvSpPr>
        <p:spPr>
          <a:xfrm flipV="1">
            <a:off x="1676520" y="3124080"/>
            <a:ext cx="91440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99"/>
                </a:solidFill>
                <a:latin typeface="Calibri"/>
                <a:ea typeface="Calibri"/>
              </a:rPr>
              <a:t>Load Composition Data</a:t>
            </a:r>
            <a:endParaRPr b="0" i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Long ID” field in PSLF program is used to identify the load climate zone and substation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LID consists of 7 character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F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mmerci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residenti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,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rur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loads, the LID code is a combination of the Climate Zone and Feeder Typ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&lt;3-character climate zone&gt;_&lt;3-character load clas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Calibri"/>
              </a:rPr>
              <a:t>A load in downtown Phoenix with high concentration of commercial loads would be identified as "DSW_COM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Calibri"/>
              </a:rPr>
              <a:t>Rural agricultural load in Moses Lake, WA would be identified as "NWI_RAG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F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industri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loads, the LID code will be one of the Industrial Load IDs, which starts with “IND_”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F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power plant auxilia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loads, the LID code will be “PPA_AUX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MPLDW Long ID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ECC Climate Areas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380880" y="1295280"/>
          <a:ext cx="8153640" cy="4980240"/>
        </p:xfrm>
        <a:graphic>
          <a:graphicData uri="http://schemas.openxmlformats.org/drawingml/2006/table">
            <a:tbl>
              <a:tblPr/>
              <a:tblGrid>
                <a:gridCol w="938160"/>
                <a:gridCol w="3097440"/>
                <a:gridCol w="4118040"/>
              </a:tblGrid>
              <a:tr h="37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mate Z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resentative 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W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west Co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ttle, Vancouver 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W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west Val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land 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west In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ise, Tri-Cities, Spoka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cky Mountain Nor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gary, Montana, Wyo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ern California Co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y 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C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ern California Val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cra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ern California In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s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ern California Co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, San Di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ern California Val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, San Di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ern California In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, San Di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S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rt Southw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enix, Riverside, Las Veg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Des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t Lake City, Albuquerque, Denver, Re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D Regions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3" descr="wecc.jpg"/>
          <p:cNvPicPr/>
          <p:nvPr/>
        </p:nvPicPr>
        <p:blipFill>
          <a:blip r:embed="rId1"/>
          <a:stretch/>
        </p:blipFill>
        <p:spPr>
          <a:xfrm>
            <a:off x="685800" y="1447920"/>
            <a:ext cx="4859280" cy="5105160"/>
          </a:xfrm>
          <a:prstGeom prst="rect">
            <a:avLst/>
          </a:prstGeom>
          <a:ln w="0">
            <a:noFill/>
          </a:ln>
        </p:spPr>
      </p:pic>
      <p:sp>
        <p:nvSpPr>
          <p:cNvPr id="391" name="Freeform 4"/>
          <p:cNvSpPr/>
          <p:nvPr/>
        </p:nvSpPr>
        <p:spPr>
          <a:xfrm>
            <a:off x="1450800" y="1474920"/>
            <a:ext cx="1692360" cy="2220840"/>
          </a:xfrm>
          <a:custGeom>
            <a:avLst/>
            <a:gdLst/>
            <a:ahLst/>
            <a:rect l="l" t="t" r="r" b="b"/>
            <a:pathLst>
              <a:path w="1692671" h="2220825">
                <a:moveTo>
                  <a:pt x="481075" y="0"/>
                </a:moveTo>
                <a:cubicBezTo>
                  <a:pt x="486196" y="156478"/>
                  <a:pt x="491317" y="312956"/>
                  <a:pt x="481075" y="457485"/>
                </a:cubicBezTo>
                <a:cubicBezTo>
                  <a:pt x="470833" y="602014"/>
                  <a:pt x="473109" y="767027"/>
                  <a:pt x="419625" y="867173"/>
                </a:cubicBezTo>
                <a:cubicBezTo>
                  <a:pt x="366141" y="967319"/>
                  <a:pt x="228450" y="903589"/>
                  <a:pt x="160173" y="1058360"/>
                </a:cubicBezTo>
                <a:cubicBezTo>
                  <a:pt x="91896" y="1213131"/>
                  <a:pt x="-36693" y="1605749"/>
                  <a:pt x="9963" y="1795798"/>
                </a:cubicBezTo>
                <a:cubicBezTo>
                  <a:pt x="56619" y="1985847"/>
                  <a:pt x="192035" y="2147446"/>
                  <a:pt x="440108" y="2198657"/>
                </a:cubicBezTo>
                <a:cubicBezTo>
                  <a:pt x="688181" y="2249868"/>
                  <a:pt x="1290157" y="2210038"/>
                  <a:pt x="1498402" y="2103064"/>
                </a:cubicBezTo>
                <a:cubicBezTo>
                  <a:pt x="1706647" y="1996090"/>
                  <a:pt x="1672509" y="1741172"/>
                  <a:pt x="1689578" y="1556813"/>
                </a:cubicBezTo>
                <a:cubicBezTo>
                  <a:pt x="1706647" y="1372454"/>
                  <a:pt x="1649750" y="1165334"/>
                  <a:pt x="1600818" y="996907"/>
                </a:cubicBezTo>
                <a:cubicBezTo>
                  <a:pt x="1551886" y="828480"/>
                  <a:pt x="1434677" y="707850"/>
                  <a:pt x="1395987" y="546251"/>
                </a:cubicBezTo>
                <a:cubicBezTo>
                  <a:pt x="1357297" y="384652"/>
                  <a:pt x="1368676" y="27313"/>
                  <a:pt x="1368676" y="27313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7"/>
          <p:cNvSpPr/>
          <p:nvPr/>
        </p:nvSpPr>
        <p:spPr>
          <a:xfrm>
            <a:off x="1504800" y="2349360"/>
            <a:ext cx="892440" cy="3270240"/>
          </a:xfrm>
          <a:custGeom>
            <a:avLst/>
            <a:gdLst/>
            <a:ahLst/>
            <a:rect l="l" t="t" r="r" b="b"/>
            <a:pathLst>
              <a:path w="891157" h="3229705">
                <a:moveTo>
                  <a:pt x="351769" y="0"/>
                </a:moveTo>
                <a:cubicBezTo>
                  <a:pt x="391028" y="30157"/>
                  <a:pt x="430288" y="60315"/>
                  <a:pt x="447357" y="116078"/>
                </a:cubicBezTo>
                <a:cubicBezTo>
                  <a:pt x="464426" y="171841"/>
                  <a:pt x="504254" y="75109"/>
                  <a:pt x="454184" y="334578"/>
                </a:cubicBezTo>
                <a:cubicBezTo>
                  <a:pt x="404114" y="594047"/>
                  <a:pt x="222043" y="1419112"/>
                  <a:pt x="146938" y="1672891"/>
                </a:cubicBezTo>
                <a:cubicBezTo>
                  <a:pt x="71833" y="1926670"/>
                  <a:pt x="-19203" y="1681995"/>
                  <a:pt x="3556" y="1857250"/>
                </a:cubicBezTo>
                <a:cubicBezTo>
                  <a:pt x="26315" y="2032505"/>
                  <a:pt x="160593" y="2519578"/>
                  <a:pt x="283492" y="2724422"/>
                </a:cubicBezTo>
                <a:cubicBezTo>
                  <a:pt x="406391" y="2929266"/>
                  <a:pt x="639671" y="3002099"/>
                  <a:pt x="740948" y="3086313"/>
                </a:cubicBezTo>
                <a:cubicBezTo>
                  <a:pt x="842226" y="3170527"/>
                  <a:pt x="891157" y="3229705"/>
                  <a:pt x="891157" y="3229705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8"/>
          <p:cNvSpPr/>
          <p:nvPr/>
        </p:nvSpPr>
        <p:spPr>
          <a:xfrm>
            <a:off x="1569960" y="5014800"/>
            <a:ext cx="3783240" cy="1417680"/>
          </a:xfrm>
          <a:custGeom>
            <a:avLst/>
            <a:gdLst/>
            <a:ahLst/>
            <a:rect l="l" t="t" r="r" b="b"/>
            <a:pathLst>
              <a:path w="3783372" h="1417844">
                <a:moveTo>
                  <a:pt x="0" y="31734"/>
                </a:moveTo>
                <a:cubicBezTo>
                  <a:pt x="193451" y="11249"/>
                  <a:pt x="386903" y="-9235"/>
                  <a:pt x="621321" y="4421"/>
                </a:cubicBezTo>
                <a:cubicBezTo>
                  <a:pt x="855739" y="18077"/>
                  <a:pt x="1216469" y="22629"/>
                  <a:pt x="1406507" y="113671"/>
                </a:cubicBezTo>
                <a:cubicBezTo>
                  <a:pt x="1596545" y="204713"/>
                  <a:pt x="1642063" y="471010"/>
                  <a:pt x="1761548" y="550671"/>
                </a:cubicBezTo>
                <a:cubicBezTo>
                  <a:pt x="1881033" y="630332"/>
                  <a:pt x="2123416" y="591640"/>
                  <a:pt x="2123416" y="591640"/>
                </a:cubicBezTo>
                <a:cubicBezTo>
                  <a:pt x="2315730" y="595054"/>
                  <a:pt x="2649149" y="531325"/>
                  <a:pt x="2915429" y="571156"/>
                </a:cubicBezTo>
                <a:cubicBezTo>
                  <a:pt x="3181709" y="610987"/>
                  <a:pt x="3585682" y="689510"/>
                  <a:pt x="3721098" y="830625"/>
                </a:cubicBezTo>
                <a:cubicBezTo>
                  <a:pt x="3856514" y="971740"/>
                  <a:pt x="3729064" y="1319974"/>
                  <a:pt x="3727926" y="1417844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9"/>
          <p:cNvSpPr/>
          <p:nvPr/>
        </p:nvSpPr>
        <p:spPr>
          <a:xfrm>
            <a:off x="1596960" y="4124160"/>
            <a:ext cx="432000" cy="887400"/>
          </a:xfrm>
          <a:custGeom>
            <a:avLst/>
            <a:gdLst/>
            <a:ahLst/>
            <a:rect l="l" t="t" r="r" b="b"/>
            <a:pathLst>
              <a:path w="430424" h="888316">
                <a:moveTo>
                  <a:pt x="0" y="7404"/>
                </a:moveTo>
                <a:cubicBezTo>
                  <a:pt x="26742" y="-33565"/>
                  <a:pt x="258315" y="102998"/>
                  <a:pt x="327730" y="232732"/>
                </a:cubicBezTo>
                <a:cubicBezTo>
                  <a:pt x="397145" y="362466"/>
                  <a:pt x="399421" y="676560"/>
                  <a:pt x="416490" y="785810"/>
                </a:cubicBezTo>
                <a:cubicBezTo>
                  <a:pt x="433559" y="895060"/>
                  <a:pt x="430146" y="888232"/>
                  <a:pt x="430146" y="888232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2"/>
          <p:cNvSpPr/>
          <p:nvPr/>
        </p:nvSpPr>
        <p:spPr>
          <a:xfrm>
            <a:off x="2262960" y="236232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NW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6"/>
          <p:cNvSpPr/>
          <p:nvPr/>
        </p:nvSpPr>
        <p:spPr>
          <a:xfrm>
            <a:off x="1425240" y="274320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NW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7"/>
          <p:cNvSpPr/>
          <p:nvPr/>
        </p:nvSpPr>
        <p:spPr>
          <a:xfrm>
            <a:off x="1224000" y="2057400"/>
            <a:ext cx="59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NWC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8"/>
          <p:cNvSpPr/>
          <p:nvPr/>
        </p:nvSpPr>
        <p:spPr>
          <a:xfrm>
            <a:off x="3966480" y="228600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R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9"/>
          <p:cNvSpPr/>
          <p:nvPr/>
        </p:nvSpPr>
        <p:spPr>
          <a:xfrm>
            <a:off x="2670120" y="411480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H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20"/>
          <p:cNvSpPr/>
          <p:nvPr/>
        </p:nvSpPr>
        <p:spPr>
          <a:xfrm>
            <a:off x="3433320" y="57913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S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21"/>
          <p:cNvSpPr/>
          <p:nvPr/>
        </p:nvSpPr>
        <p:spPr>
          <a:xfrm>
            <a:off x="994320" y="380988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N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4"/>
          <p:cNvSpPr/>
          <p:nvPr/>
        </p:nvSpPr>
        <p:spPr>
          <a:xfrm>
            <a:off x="1216080" y="3625920"/>
            <a:ext cx="538200" cy="49320"/>
          </a:xfrm>
          <a:custGeom>
            <a:avLst/>
            <a:gdLst/>
            <a:ahLst/>
            <a:rect l="l" t="t" r="r" b="b"/>
            <a:pathLst>
              <a:path w="539392" h="48832">
                <a:moveTo>
                  <a:pt x="539392" y="0"/>
                </a:moveTo>
                <a:cubicBezTo>
                  <a:pt x="464856" y="16501"/>
                  <a:pt x="390321" y="33003"/>
                  <a:pt x="300423" y="40969"/>
                </a:cubicBezTo>
                <a:cubicBezTo>
                  <a:pt x="210525" y="48935"/>
                  <a:pt x="-1134" y="50073"/>
                  <a:pt x="4" y="47797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23"/>
          <p:cNvSpPr/>
          <p:nvPr/>
        </p:nvSpPr>
        <p:spPr>
          <a:xfrm>
            <a:off x="1527480" y="44197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N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24"/>
          <p:cNvSpPr/>
          <p:nvPr/>
        </p:nvSpPr>
        <p:spPr>
          <a:xfrm>
            <a:off x="1680120" y="548640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25"/>
          <p:cNvSpPr/>
          <p:nvPr/>
        </p:nvSpPr>
        <p:spPr>
          <a:xfrm>
            <a:off x="2291040" y="541008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15"/>
          <p:cNvSpPr/>
          <p:nvPr/>
        </p:nvSpPr>
        <p:spPr>
          <a:xfrm>
            <a:off x="2397240" y="5624640"/>
            <a:ext cx="546120" cy="772920"/>
          </a:xfrm>
          <a:custGeom>
            <a:avLst/>
            <a:gdLst/>
            <a:ahLst/>
            <a:rect l="l" t="t" r="r" b="b"/>
            <a:pathLst>
              <a:path w="252625" h="484797">
                <a:moveTo>
                  <a:pt x="0" y="0"/>
                </a:moveTo>
                <a:cubicBezTo>
                  <a:pt x="67708" y="72264"/>
                  <a:pt x="135416" y="144529"/>
                  <a:pt x="177520" y="225328"/>
                </a:cubicBezTo>
                <a:cubicBezTo>
                  <a:pt x="219624" y="306128"/>
                  <a:pt x="252625" y="484797"/>
                  <a:pt x="252625" y="484797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22"/>
          <p:cNvSpPr/>
          <p:nvPr/>
        </p:nvSpPr>
        <p:spPr>
          <a:xfrm>
            <a:off x="5807160" y="1676520"/>
            <a:ext cx="2732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WC – Northwest co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WV – Northwest val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WI – Northwest in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MN – Rocky moun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CC – N. Calif. co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CV – N. Calif. val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D – High de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C – S. Calif. co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V – S. Calif. val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W – Desert southw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1"/>
          <p:cNvSpPr/>
          <p:nvPr/>
        </p:nvSpPr>
        <p:spPr>
          <a:xfrm>
            <a:off x="2941560" y="3591000"/>
            <a:ext cx="2556000" cy="231840"/>
          </a:xfrm>
          <a:custGeom>
            <a:avLst/>
            <a:gdLst/>
            <a:ahLst/>
            <a:rect l="l" t="t" r="r" b="b"/>
            <a:pathLst>
              <a:path w="2555913" h="231354">
                <a:moveTo>
                  <a:pt x="0" y="0"/>
                </a:moveTo>
                <a:cubicBezTo>
                  <a:pt x="260732" y="46821"/>
                  <a:pt x="521465" y="93643"/>
                  <a:pt x="947450" y="132202"/>
                </a:cubicBezTo>
                <a:cubicBezTo>
                  <a:pt x="1373436" y="170761"/>
                  <a:pt x="2555913" y="231354"/>
                  <a:pt x="2555913" y="231354"/>
                </a:cubicBezTo>
                <a:lnTo>
                  <a:pt x="2555913" y="2313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2"/>
          <p:cNvSpPr/>
          <p:nvPr/>
        </p:nvSpPr>
        <p:spPr>
          <a:xfrm>
            <a:off x="2016000" y="5013360"/>
            <a:ext cx="793800" cy="990720"/>
          </a:xfrm>
          <a:custGeom>
            <a:avLst/>
            <a:gdLst/>
            <a:ahLst/>
            <a:rect l="l" t="t" r="r" b="b"/>
            <a:pathLst>
              <a:path w="793939" h="991518">
                <a:moveTo>
                  <a:pt x="0" y="0"/>
                </a:moveTo>
                <a:cubicBezTo>
                  <a:pt x="29378" y="77118"/>
                  <a:pt x="58757" y="154236"/>
                  <a:pt x="176270" y="220337"/>
                </a:cubicBezTo>
                <a:cubicBezTo>
                  <a:pt x="293783" y="286438"/>
                  <a:pt x="602255" y="273585"/>
                  <a:pt x="705079" y="396607"/>
                </a:cubicBezTo>
                <a:cubicBezTo>
                  <a:pt x="807903" y="519629"/>
                  <a:pt x="793214" y="958467"/>
                  <a:pt x="793214" y="958467"/>
                </a:cubicBezTo>
                <a:lnTo>
                  <a:pt x="793214" y="958467"/>
                </a:lnTo>
                <a:lnTo>
                  <a:pt x="793214" y="958467"/>
                </a:lnTo>
                <a:lnTo>
                  <a:pt x="782197" y="991518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ubstation / Feeder Types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685800" y="2057400"/>
          <a:ext cx="7848720" cy="3429000"/>
        </p:xfrm>
        <a:graphic>
          <a:graphicData uri="http://schemas.openxmlformats.org/drawingml/2006/table">
            <a:tbl>
              <a:tblPr/>
              <a:tblGrid>
                <a:gridCol w="652320"/>
                <a:gridCol w="1436760"/>
                <a:gridCol w="1606680"/>
                <a:gridCol w="1530360"/>
                <a:gridCol w="1217520"/>
                <a:gridCol w="1405080"/>
              </a:tblGrid>
              <a:tr h="539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eder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iden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mer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us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gricult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540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iden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0 to 8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 to 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2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ce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mer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ce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 to 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ce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 to 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ce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ce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cec"/>
                    </a:solidFill>
                  </a:tcPr>
                </a:tc>
              </a:tr>
              <a:tr h="539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x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 to 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 to 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 to 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87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ce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ural Agricult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ce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ce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ce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ce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cec"/>
                    </a:solidFill>
                  </a:tcPr>
                </a:tc>
              </a:tr>
            </a:tbl>
          </a:graphicData>
        </a:graphic>
      </p:graphicFrame>
      <p:sp>
        <p:nvSpPr>
          <p:cNvPr id="412" name="TextBox 3"/>
          <p:cNvSpPr/>
          <p:nvPr/>
        </p:nvSpPr>
        <p:spPr>
          <a:xfrm>
            <a:off x="702360" y="579132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age is energy, not customer 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4:59:19Z</dcterms:created>
  <dc:creator>dnk2264</dc:creator>
  <dc:description/>
  <dc:language>en-US</dc:language>
  <cp:lastModifiedBy>Dmitry</cp:lastModifiedBy>
  <dcterms:modified xsi:type="dcterms:W3CDTF">2012-03-21T19:03:25Z</dcterms:modified>
  <cp:revision>200</cp:revision>
  <dc:subject/>
  <dc:title>WECC Modeling Workshop Load Mod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C989AF7F9FDE42B97A01F60A2F42A9</vt:lpwstr>
  </property>
  <property fmtid="{D5CDD505-2E9C-101B-9397-08002B2CF9AE}" pid="3" name="_dlc_DocId">
    <vt:lpwstr>6WX55FZVFCVT-110-63</vt:lpwstr>
  </property>
  <property fmtid="{D5CDD505-2E9C-101B-9397-08002B2CF9AE}" pid="4" name="_dlc_DocIdItemGuid">
    <vt:lpwstr>efc8479d-5179-4424-b1a6-3e82d76e6517</vt:lpwstr>
  </property>
  <property fmtid="{D5CDD505-2E9C-101B-9397-08002B2CF9AE}" pid="5" name="_dlc_DocIdUrl">
    <vt:lpwstr>http://wise/_layouts/DocIdRedir.aspx?ID=6WX55FZVFCVT-110-63, 6WX55FZVFCVT-110-63</vt:lpwstr>
  </property>
</Properties>
</file>