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4F9A-9FD2-4FC4-95E2-0287763A0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5AF4-E82D-4F65-9299-48F94845C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B758-1D15-49AC-BA90-612B09D8E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FD33-9144-4364-A001-CBB537FDD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ADF-EE42-4DEE-863C-DE35EA43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E28-C440-4D9C-87D7-14BBDAE9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87A-DF36-4EF4-8D62-A2368DCB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CA6-F0A2-4FE5-8111-0FF78431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2A8-F89B-45B2-8796-EB6790DF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1F4-4314-4277-8911-58635DA2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EBC-5A62-433D-99B8-F8D7841D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279-0954-41CC-B7E9-F1B7140F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26E-4D51-4826-A6D1-236B4D2C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DF0-BE0C-4169-B2B8-92206A96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821-A4E1-4823-AACC-FB5E488A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77B-48AD-414C-A615-06310A47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Picture 2" descr="C:\Documents and Settings\jramey\My Documents\My Pictures\WECCOfficialLogo2.jpg"/>
          <p:cNvPicPr/>
          <p:nvPr/>
        </p:nvPicPr>
        <p:blipFill>
          <a:blip r:embed="rId2"/>
          <a:stretch/>
        </p:blipFill>
        <p:spPr>
          <a:xfrm>
            <a:off x="1523880" y="457200"/>
            <a:ext cx="5913720" cy="16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WECCOfficialLogo2.jpg"/>
          <p:cNvPicPr/>
          <p:nvPr/>
        </p:nvPicPr>
        <p:blipFill>
          <a:blip r:embed="rId2"/>
          <a:srcRect l="0" t="0" r="0" b="3560"/>
          <a:stretch/>
        </p:blipFill>
        <p:spPr>
          <a:xfrm>
            <a:off x="6576840" y="6019920"/>
            <a:ext cx="2414880" cy="676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152280" y="6324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C31E-104E-415A-8F8F-25CFD84D1C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5"/>
          <p:cNvSpPr/>
          <p:nvPr/>
        </p:nvSpPr>
        <p:spPr>
          <a:xfrm>
            <a:off x="590400" y="1371600"/>
            <a:ext cx="8001000" cy="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3"/>
          <p:cNvSpPr/>
          <p:nvPr/>
        </p:nvSpPr>
        <p:spPr>
          <a:xfrm>
            <a:off x="590400" y="1371600"/>
            <a:ext cx="8001000" cy="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MPj03155980000[1]"/>
          <p:cNvPicPr/>
          <p:nvPr/>
        </p:nvPicPr>
        <p:blipFill>
          <a:blip r:embed="rId2"/>
          <a:stretch/>
        </p:blipFill>
        <p:spPr>
          <a:xfrm>
            <a:off x="304920" y="1562040"/>
            <a:ext cx="8485200" cy="4998960"/>
          </a:xfrm>
          <a:prstGeom prst="rect">
            <a:avLst/>
          </a:prstGeom>
          <a:ln w="0">
            <a:noFill/>
          </a:ln>
        </p:spPr>
      </p:pic>
      <p:sp>
        <p:nvSpPr>
          <p:cNvPr id="195" name="Straight Connector 3"/>
          <p:cNvSpPr/>
          <p:nvPr/>
        </p:nvSpPr>
        <p:spPr>
          <a:xfrm>
            <a:off x="590400" y="1371600"/>
            <a:ext cx="8001000" cy="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255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3F59-8309-40EA-AD30-09EEB24C5A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Calibri"/>
              </a:rPr>
              <a:t>CMPLDW</a:t>
            </a:r>
            <a:endParaRPr b="0" i="1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6212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March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99"/>
                </a:solidFill>
                <a:latin typeface="Arial Narrow"/>
              </a:rPr>
              <a:t>WECC Composite Load Model (CMPLDW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"/>
          <p:cNvSpPr/>
          <p:nvPr/>
        </p:nvSpPr>
        <p:spPr>
          <a:xfrm>
            <a:off x="2057400" y="2666880"/>
            <a:ext cx="0" cy="1598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"/>
          <p:cNvSpPr/>
          <p:nvPr/>
        </p:nvSpPr>
        <p:spPr>
          <a:xfrm>
            <a:off x="632448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3124080" y="3276720"/>
            <a:ext cx="323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3657600" y="29718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2666880" y="32767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 flipH="1">
            <a:off x="2666880" y="3429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666880" y="29718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 flipH="1">
            <a:off x="2666880" y="31240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2971440" y="3276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2971800" y="34290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H="1">
            <a:off x="2971440" y="29718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2971800" y="3124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081160" y="3276720"/>
            <a:ext cx="58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6653160" y="5181480"/>
            <a:ext cx="14479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6324480" y="541008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3276720" y="3733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2767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3276720" y="4114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1"/>
          <p:cNvSpPr/>
          <p:nvPr/>
        </p:nvSpPr>
        <p:spPr>
          <a:xfrm>
            <a:off x="312408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>
            <a:off x="3048120" y="4114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23"/>
          <p:cNvSpPr/>
          <p:nvPr/>
        </p:nvSpPr>
        <p:spPr>
          <a:xfrm flipV="1">
            <a:off x="3048120" y="312408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86728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>
            <a:off x="5867280" y="3657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6"/>
          <p:cNvSpPr/>
          <p:nvPr/>
        </p:nvSpPr>
        <p:spPr>
          <a:xfrm>
            <a:off x="571500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>
            <a:off x="56386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28"/>
          <p:cNvSpPr/>
          <p:nvPr/>
        </p:nvSpPr>
        <p:spPr>
          <a:xfrm flipV="1">
            <a:off x="5638680" y="266688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6324480" y="2209680"/>
            <a:ext cx="34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0"/>
          <p:cNvSpPr/>
          <p:nvPr/>
        </p:nvSpPr>
        <p:spPr>
          <a:xfrm>
            <a:off x="6667560" y="1930320"/>
            <a:ext cx="582480" cy="58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2"/>
          <p:cNvSpPr/>
          <p:nvPr/>
        </p:nvSpPr>
        <p:spPr>
          <a:xfrm>
            <a:off x="6348240" y="2870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3"/>
          <p:cNvSpPr/>
          <p:nvPr/>
        </p:nvSpPr>
        <p:spPr>
          <a:xfrm>
            <a:off x="6653160" y="2590920"/>
            <a:ext cx="582840" cy="583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4"/>
          <p:cNvSpPr/>
          <p:nvPr/>
        </p:nvSpPr>
        <p:spPr>
          <a:xfrm>
            <a:off x="6348240" y="3556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5"/>
          <p:cNvSpPr/>
          <p:nvPr/>
        </p:nvSpPr>
        <p:spPr>
          <a:xfrm>
            <a:off x="6653160" y="3276720"/>
            <a:ext cx="582840" cy="583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996840" y="2971800"/>
            <a:ext cx="90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5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7"/>
          <p:cNvSpPr/>
          <p:nvPr/>
        </p:nvSpPr>
        <p:spPr>
          <a:xfrm>
            <a:off x="411480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8"/>
          <p:cNvSpPr/>
          <p:nvPr/>
        </p:nvSpPr>
        <p:spPr>
          <a:xfrm>
            <a:off x="4114800" y="3657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9"/>
          <p:cNvSpPr/>
          <p:nvPr/>
        </p:nvSpPr>
        <p:spPr>
          <a:xfrm>
            <a:off x="3962520" y="4038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0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41"/>
          <p:cNvSpPr/>
          <p:nvPr/>
        </p:nvSpPr>
        <p:spPr>
          <a:xfrm flipV="1">
            <a:off x="3886200" y="266688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6615000" y="5867280"/>
            <a:ext cx="14479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3"/>
          <p:cNvSpPr/>
          <p:nvPr/>
        </p:nvSpPr>
        <p:spPr>
          <a:xfrm>
            <a:off x="6324480" y="6095880"/>
            <a:ext cx="2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1"/>
          <p:cNvSpPr/>
          <p:nvPr/>
        </p:nvSpPr>
        <p:spPr>
          <a:xfrm>
            <a:off x="6324480" y="4495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2"/>
          <p:cNvSpPr/>
          <p:nvPr/>
        </p:nvSpPr>
        <p:spPr>
          <a:xfrm>
            <a:off x="6629400" y="4038480"/>
            <a:ext cx="952560" cy="91440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3"/>
          <p:cNvSpPr/>
          <p:nvPr/>
        </p:nvSpPr>
        <p:spPr>
          <a:xfrm flipV="1">
            <a:off x="2438280" y="2971440"/>
            <a:ext cx="9144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"/>
          <p:cNvSpPr/>
          <p:nvPr/>
        </p:nvSpPr>
        <p:spPr>
          <a:xfrm>
            <a:off x="6807960" y="426564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3173040" y="23256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8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4495680" y="3174840"/>
            <a:ext cx="914400" cy="17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6"/>
          <p:cNvSpPr/>
          <p:nvPr/>
        </p:nvSpPr>
        <p:spPr>
          <a:xfrm>
            <a:off x="838080" y="4724280"/>
            <a:ext cx="10670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V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7"/>
          <p:cNvSpPr/>
          <p:nvPr/>
        </p:nvSpPr>
        <p:spPr>
          <a:xfrm>
            <a:off x="838080" y="5257800"/>
            <a:ext cx="10670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8"/>
          <p:cNvSpPr/>
          <p:nvPr/>
        </p:nvSpPr>
        <p:spPr>
          <a:xfrm flipV="1">
            <a:off x="1295280" y="403812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9"/>
          <p:cNvSpPr/>
          <p:nvPr/>
        </p:nvSpPr>
        <p:spPr>
          <a:xfrm flipV="1" rot="10800000">
            <a:off x="1828800" y="3961440"/>
            <a:ext cx="45720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99"/>
                </a:solidFill>
                <a:latin typeface="Arial Narrow"/>
              </a:rPr>
              <a:t>Composite</a:t>
            </a:r>
            <a:r>
              <a:rPr b="0" i="1" lang="en-US" sz="4000" spc="-1" strike="noStrike">
                <a:solidFill>
                  <a:srgbClr val="000099"/>
                </a:solidFill>
                <a:latin typeface="Arial Narrow"/>
              </a:rPr>
              <a:t> Load Model Dat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1295280" y="2819520"/>
            <a:ext cx="0" cy="1218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>
            <a:off x="5181480" y="190512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2362320" y="3429000"/>
            <a:ext cx="28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2895480" y="28195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1905120" y="34290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 flipH="1">
            <a:off x="1904760" y="3581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1905120" y="3124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 flipH="1">
            <a:off x="1904760" y="32767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 flipH="1">
            <a:off x="2209680" y="3429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2209680" y="35812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 flipH="1">
            <a:off x="2209680" y="31240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2209680" y="32767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1319040" y="3429000"/>
            <a:ext cx="58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5510160" y="5334120"/>
            <a:ext cx="14479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5181480" y="556272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251460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2514600" y="3886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2514600" y="4267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2362320" y="4648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22860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rc 23"/>
          <p:cNvSpPr/>
          <p:nvPr/>
        </p:nvSpPr>
        <p:spPr>
          <a:xfrm flipV="1">
            <a:off x="2286000" y="327672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4"/>
          <p:cNvSpPr/>
          <p:nvPr/>
        </p:nvSpPr>
        <p:spPr>
          <a:xfrm>
            <a:off x="4724280" y="342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"/>
          <p:cNvSpPr/>
          <p:nvPr/>
        </p:nvSpPr>
        <p:spPr>
          <a:xfrm>
            <a:off x="472428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4572000" y="4191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7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rc 28"/>
          <p:cNvSpPr/>
          <p:nvPr/>
        </p:nvSpPr>
        <p:spPr>
          <a:xfrm flipV="1">
            <a:off x="4495680" y="281952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5181480" y="2362320"/>
            <a:ext cx="34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5524560" y="2082960"/>
            <a:ext cx="582480" cy="583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7468200" y="3656160"/>
            <a:ext cx="157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Loa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2"/>
          <p:cNvSpPr/>
          <p:nvPr/>
        </p:nvSpPr>
        <p:spPr>
          <a:xfrm>
            <a:off x="5205240" y="30225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5510160" y="2743200"/>
            <a:ext cx="582840" cy="58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4"/>
          <p:cNvSpPr/>
          <p:nvPr/>
        </p:nvSpPr>
        <p:spPr>
          <a:xfrm>
            <a:off x="5205240" y="3708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5510160" y="3429000"/>
            <a:ext cx="582840" cy="58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230760" y="312408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5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0-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7"/>
          <p:cNvSpPr/>
          <p:nvPr/>
        </p:nvSpPr>
        <p:spPr>
          <a:xfrm>
            <a:off x="3352680" y="342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8"/>
          <p:cNvSpPr/>
          <p:nvPr/>
        </p:nvSpPr>
        <p:spPr>
          <a:xfrm>
            <a:off x="3352680" y="3809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9"/>
          <p:cNvSpPr/>
          <p:nvPr/>
        </p:nvSpPr>
        <p:spPr>
          <a:xfrm>
            <a:off x="3200400" y="4191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0"/>
          <p:cNvSpPr/>
          <p:nvPr/>
        </p:nvSpPr>
        <p:spPr>
          <a:xfrm>
            <a:off x="3124080" y="3809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rc 41"/>
          <p:cNvSpPr/>
          <p:nvPr/>
        </p:nvSpPr>
        <p:spPr>
          <a:xfrm flipV="1">
            <a:off x="3124080" y="2819520"/>
            <a:ext cx="457200" cy="914400"/>
          </a:xfrm>
          <a:custGeom>
            <a:avLst/>
            <a:gdLst/>
            <a:ahLst/>
            <a:rect l="l" t="t" r="r" b="b"/>
            <a:pathLst>
              <a:path fill="none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</a:path>
              <a:path stroke="0" w="14997" h="21600">
                <a:moveTo>
                  <a:pt x="-1" y="1217"/>
                </a:moveTo>
                <a:cubicBezTo>
                  <a:pt x="2297" y="411"/>
                  <a:pt x="4715" y="-1"/>
                  <a:pt x="7150" y="0"/>
                </a:cubicBezTo>
                <a:cubicBezTo>
                  <a:pt x="9834" y="0"/>
                  <a:pt x="12495" y="500"/>
                  <a:pt x="14997" y="1475"/>
                </a:cubicBezTo>
                <a:lnTo>
                  <a:pt x="7150" y="21600"/>
                </a:lnTo>
                <a:lnTo>
                  <a:pt x="-1" y="121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2"/>
          <p:cNvSpPr/>
          <p:nvPr/>
        </p:nvSpPr>
        <p:spPr>
          <a:xfrm>
            <a:off x="5472000" y="6019920"/>
            <a:ext cx="14479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5181480" y="6248520"/>
            <a:ext cx="2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4"/>
          <p:cNvSpPr/>
          <p:nvPr/>
        </p:nvSpPr>
        <p:spPr>
          <a:xfrm flipH="1">
            <a:off x="7146360" y="2209680"/>
            <a:ext cx="228600" cy="4267440"/>
          </a:xfrm>
          <a:custGeom>
            <a:avLst/>
            <a:gdLst>
              <a:gd name="textAreaLeft" fmla="*/ 145800 w 228600"/>
              <a:gd name="textAreaRight" fmla="*/ 228600 w 22860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800"/>
                </a:lnTo>
                <a:cubicBezTo>
                  <a:pt x="10800" y="8700"/>
                  <a:pt x="5400" y="9600"/>
                  <a:pt x="0" y="9600"/>
                </a:cubicBezTo>
                <a:cubicBezTo>
                  <a:pt x="5400" y="9600"/>
                  <a:pt x="10800" y="10500"/>
                  <a:pt x="10800" y="11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5"/>
          <p:cNvSpPr/>
          <p:nvPr/>
        </p:nvSpPr>
        <p:spPr>
          <a:xfrm>
            <a:off x="6782040" y="1219320"/>
            <a:ext cx="20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Load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6"/>
          <p:cNvSpPr/>
          <p:nvPr/>
        </p:nvSpPr>
        <p:spPr>
          <a:xfrm flipH="1">
            <a:off x="6095520" y="16002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7"/>
          <p:cNvSpPr/>
          <p:nvPr/>
        </p:nvSpPr>
        <p:spPr>
          <a:xfrm flipH="1">
            <a:off x="6095520" y="190512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48"/>
          <p:cNvSpPr/>
          <p:nvPr/>
        </p:nvSpPr>
        <p:spPr>
          <a:xfrm flipH="1" rot="16200000">
            <a:off x="2933640" y="114120"/>
            <a:ext cx="228600" cy="4114800"/>
          </a:xfrm>
          <a:custGeom>
            <a:avLst/>
            <a:gdLst>
              <a:gd name="textAreaLeft" fmla="*/ 145800 w 228600"/>
              <a:gd name="textAreaRight" fmla="*/ 228600 w 2286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800"/>
                </a:lnTo>
                <a:cubicBezTo>
                  <a:pt x="10800" y="8700"/>
                  <a:pt x="5400" y="9600"/>
                  <a:pt x="0" y="9600"/>
                </a:cubicBezTo>
                <a:cubicBezTo>
                  <a:pt x="5400" y="9600"/>
                  <a:pt x="10800" y="10500"/>
                  <a:pt x="10800" y="11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1219320" y="146196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Distribution Equival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380880" y="5181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UVLS and UFL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181480" y="4470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52"/>
          <p:cNvSpPr/>
          <p:nvPr/>
        </p:nvSpPr>
        <p:spPr>
          <a:xfrm>
            <a:off x="5486400" y="4191120"/>
            <a:ext cx="582480" cy="583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1676520" y="3124080"/>
            <a:ext cx="9144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99"/>
                </a:solidFill>
                <a:latin typeface="Calibri"/>
                <a:ea typeface="Calibri"/>
              </a:rPr>
              <a:t>Load Composition Data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ng ID” field in PSLF program is used to identify the load climate zone and substa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LID consists of 7 charac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mmerc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sident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ur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loads, the LID code is a combination of the Climate Zone and Feeder Typ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&lt;3-character climate zone&gt;_&lt;3-character load 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A load in downtown Phoenix with high concentration of commercial loads would be identified as "DSW_COM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Rural agricultural load in Moses Lake, WA would be identified as "NWI_RAG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industr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loads, the LID code will be one of the Industrial Load IDs, which starts with “IND_”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ower plant auxilia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loads, the LID code will be “PPA_AUX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MPLDW Long ID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CC Climate Areas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1295280"/>
          <a:ext cx="8153640" cy="4980240"/>
        </p:xfrm>
        <a:graphic>
          <a:graphicData uri="http://schemas.openxmlformats.org/drawingml/2006/table">
            <a:tbl>
              <a:tblPr/>
              <a:tblGrid>
                <a:gridCol w="938160"/>
                <a:gridCol w="3097440"/>
                <a:gridCol w="4118040"/>
              </a:tblGrid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ate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ative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W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Co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, Vancouver 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W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Val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 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se, Tri-Cities, Spok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y Mountain No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gary, Montana, Wyo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California Co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California Val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cr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California 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California Co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, San D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California Val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, San D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California 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, San D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 Southw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enix, Riverside, Las Ve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es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t Lake City, Albuquerque, Denver, R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D Regions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wecc.jpg"/>
          <p:cNvPicPr/>
          <p:nvPr/>
        </p:nvPicPr>
        <p:blipFill>
          <a:blip r:embed="rId1"/>
          <a:stretch/>
        </p:blipFill>
        <p:spPr>
          <a:xfrm>
            <a:off x="685800" y="1447920"/>
            <a:ext cx="4859280" cy="5105160"/>
          </a:xfrm>
          <a:prstGeom prst="rect">
            <a:avLst/>
          </a:prstGeom>
          <a:ln w="0">
            <a:noFill/>
          </a:ln>
        </p:spPr>
      </p:pic>
      <p:sp>
        <p:nvSpPr>
          <p:cNvPr id="391" name="Freeform 4"/>
          <p:cNvSpPr/>
          <p:nvPr/>
        </p:nvSpPr>
        <p:spPr>
          <a:xfrm>
            <a:off x="1450800" y="1474920"/>
            <a:ext cx="1692360" cy="2220840"/>
          </a:xfrm>
          <a:custGeom>
            <a:avLst/>
            <a:gdLst/>
            <a:ahLst/>
            <a:rect l="l" t="t" r="r" b="b"/>
            <a:pathLst>
              <a:path w="1692671" h="2220825">
                <a:moveTo>
                  <a:pt x="481075" y="0"/>
                </a:moveTo>
                <a:cubicBezTo>
                  <a:pt x="486196" y="156478"/>
                  <a:pt x="491317" y="312956"/>
                  <a:pt x="481075" y="457485"/>
                </a:cubicBezTo>
                <a:cubicBezTo>
                  <a:pt x="470833" y="602014"/>
                  <a:pt x="473109" y="767027"/>
                  <a:pt x="419625" y="867173"/>
                </a:cubicBezTo>
                <a:cubicBezTo>
                  <a:pt x="366141" y="967319"/>
                  <a:pt x="228450" y="903589"/>
                  <a:pt x="160173" y="1058360"/>
                </a:cubicBezTo>
                <a:cubicBezTo>
                  <a:pt x="91896" y="1213131"/>
                  <a:pt x="-36693" y="1605749"/>
                  <a:pt x="9963" y="1795798"/>
                </a:cubicBezTo>
                <a:cubicBezTo>
                  <a:pt x="56619" y="1985847"/>
                  <a:pt x="192035" y="2147446"/>
                  <a:pt x="440108" y="2198657"/>
                </a:cubicBezTo>
                <a:cubicBezTo>
                  <a:pt x="688181" y="2249868"/>
                  <a:pt x="1290157" y="2210038"/>
                  <a:pt x="1498402" y="2103064"/>
                </a:cubicBezTo>
                <a:cubicBezTo>
                  <a:pt x="1706647" y="1996090"/>
                  <a:pt x="1672509" y="1741172"/>
                  <a:pt x="1689578" y="1556813"/>
                </a:cubicBezTo>
                <a:cubicBezTo>
                  <a:pt x="1706647" y="1372454"/>
                  <a:pt x="1649750" y="1165334"/>
                  <a:pt x="1600818" y="996907"/>
                </a:cubicBezTo>
                <a:cubicBezTo>
                  <a:pt x="1551886" y="828480"/>
                  <a:pt x="1434677" y="707850"/>
                  <a:pt x="1395987" y="546251"/>
                </a:cubicBezTo>
                <a:cubicBezTo>
                  <a:pt x="1357297" y="384652"/>
                  <a:pt x="1368676" y="27313"/>
                  <a:pt x="1368676" y="27313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1504800" y="2349360"/>
            <a:ext cx="892440" cy="3270240"/>
          </a:xfrm>
          <a:custGeom>
            <a:avLst/>
            <a:gdLst/>
            <a:ahLst/>
            <a:rect l="l" t="t" r="r" b="b"/>
            <a:pathLst>
              <a:path w="891157" h="3229705">
                <a:moveTo>
                  <a:pt x="351769" y="0"/>
                </a:moveTo>
                <a:cubicBezTo>
                  <a:pt x="391028" y="30157"/>
                  <a:pt x="430288" y="60315"/>
                  <a:pt x="447357" y="116078"/>
                </a:cubicBezTo>
                <a:cubicBezTo>
                  <a:pt x="464426" y="171841"/>
                  <a:pt x="504254" y="75109"/>
                  <a:pt x="454184" y="334578"/>
                </a:cubicBezTo>
                <a:cubicBezTo>
                  <a:pt x="404114" y="594047"/>
                  <a:pt x="222043" y="1419112"/>
                  <a:pt x="146938" y="1672891"/>
                </a:cubicBezTo>
                <a:cubicBezTo>
                  <a:pt x="71833" y="1926670"/>
                  <a:pt x="-19203" y="1681995"/>
                  <a:pt x="3556" y="1857250"/>
                </a:cubicBezTo>
                <a:cubicBezTo>
                  <a:pt x="26315" y="2032505"/>
                  <a:pt x="160593" y="2519578"/>
                  <a:pt x="283492" y="2724422"/>
                </a:cubicBezTo>
                <a:cubicBezTo>
                  <a:pt x="406391" y="2929266"/>
                  <a:pt x="639671" y="3002099"/>
                  <a:pt x="740948" y="3086313"/>
                </a:cubicBezTo>
                <a:cubicBezTo>
                  <a:pt x="842226" y="3170527"/>
                  <a:pt x="891157" y="3229705"/>
                  <a:pt x="891157" y="322970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8"/>
          <p:cNvSpPr/>
          <p:nvPr/>
        </p:nvSpPr>
        <p:spPr>
          <a:xfrm>
            <a:off x="1569960" y="5014800"/>
            <a:ext cx="3783240" cy="1417680"/>
          </a:xfrm>
          <a:custGeom>
            <a:avLst/>
            <a:gdLst/>
            <a:ahLst/>
            <a:rect l="l" t="t" r="r" b="b"/>
            <a:pathLst>
              <a:path w="3783372" h="1417844">
                <a:moveTo>
                  <a:pt x="0" y="31734"/>
                </a:moveTo>
                <a:cubicBezTo>
                  <a:pt x="193451" y="11249"/>
                  <a:pt x="386903" y="-9235"/>
                  <a:pt x="621321" y="4421"/>
                </a:cubicBezTo>
                <a:cubicBezTo>
                  <a:pt x="855739" y="18077"/>
                  <a:pt x="1216469" y="22629"/>
                  <a:pt x="1406507" y="113671"/>
                </a:cubicBezTo>
                <a:cubicBezTo>
                  <a:pt x="1596545" y="204713"/>
                  <a:pt x="1642063" y="471010"/>
                  <a:pt x="1761548" y="550671"/>
                </a:cubicBezTo>
                <a:cubicBezTo>
                  <a:pt x="1881033" y="630332"/>
                  <a:pt x="2123416" y="591640"/>
                  <a:pt x="2123416" y="591640"/>
                </a:cubicBezTo>
                <a:cubicBezTo>
                  <a:pt x="2315730" y="595054"/>
                  <a:pt x="2649149" y="531325"/>
                  <a:pt x="2915429" y="571156"/>
                </a:cubicBezTo>
                <a:cubicBezTo>
                  <a:pt x="3181709" y="610987"/>
                  <a:pt x="3585682" y="689510"/>
                  <a:pt x="3721098" y="830625"/>
                </a:cubicBezTo>
                <a:cubicBezTo>
                  <a:pt x="3856514" y="971740"/>
                  <a:pt x="3729064" y="1319974"/>
                  <a:pt x="3727926" y="1417844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9"/>
          <p:cNvSpPr/>
          <p:nvPr/>
        </p:nvSpPr>
        <p:spPr>
          <a:xfrm>
            <a:off x="1596960" y="4124160"/>
            <a:ext cx="432000" cy="887400"/>
          </a:xfrm>
          <a:custGeom>
            <a:avLst/>
            <a:gdLst/>
            <a:ahLst/>
            <a:rect l="l" t="t" r="r" b="b"/>
            <a:pathLst>
              <a:path w="430424" h="888316">
                <a:moveTo>
                  <a:pt x="0" y="7404"/>
                </a:moveTo>
                <a:cubicBezTo>
                  <a:pt x="26742" y="-33565"/>
                  <a:pt x="258315" y="102998"/>
                  <a:pt x="327730" y="232732"/>
                </a:cubicBezTo>
                <a:cubicBezTo>
                  <a:pt x="397145" y="362466"/>
                  <a:pt x="399421" y="676560"/>
                  <a:pt x="416490" y="785810"/>
                </a:cubicBezTo>
                <a:cubicBezTo>
                  <a:pt x="433559" y="895060"/>
                  <a:pt x="430146" y="888232"/>
                  <a:pt x="430146" y="88823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2"/>
          <p:cNvSpPr/>
          <p:nvPr/>
        </p:nvSpPr>
        <p:spPr>
          <a:xfrm>
            <a:off x="2262960" y="23623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6"/>
          <p:cNvSpPr/>
          <p:nvPr/>
        </p:nvSpPr>
        <p:spPr>
          <a:xfrm>
            <a:off x="1425240" y="27432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W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>
            <a:off x="1224000" y="2057400"/>
            <a:ext cx="59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WC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8"/>
          <p:cNvSpPr/>
          <p:nvPr/>
        </p:nvSpPr>
        <p:spPr>
          <a:xfrm>
            <a:off x="3966480" y="228600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9"/>
          <p:cNvSpPr/>
          <p:nvPr/>
        </p:nvSpPr>
        <p:spPr>
          <a:xfrm>
            <a:off x="2670120" y="41148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0"/>
          <p:cNvSpPr/>
          <p:nvPr/>
        </p:nvSpPr>
        <p:spPr>
          <a:xfrm>
            <a:off x="3433320" y="57913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1"/>
          <p:cNvSpPr/>
          <p:nvPr/>
        </p:nvSpPr>
        <p:spPr>
          <a:xfrm>
            <a:off x="994320" y="38098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4"/>
          <p:cNvSpPr/>
          <p:nvPr/>
        </p:nvSpPr>
        <p:spPr>
          <a:xfrm>
            <a:off x="1216080" y="3625920"/>
            <a:ext cx="538200" cy="49320"/>
          </a:xfrm>
          <a:custGeom>
            <a:avLst/>
            <a:gdLst/>
            <a:ahLst/>
            <a:rect l="l" t="t" r="r" b="b"/>
            <a:pathLst>
              <a:path w="539392" h="48832">
                <a:moveTo>
                  <a:pt x="539392" y="0"/>
                </a:moveTo>
                <a:cubicBezTo>
                  <a:pt x="464856" y="16501"/>
                  <a:pt x="390321" y="33003"/>
                  <a:pt x="300423" y="40969"/>
                </a:cubicBezTo>
                <a:cubicBezTo>
                  <a:pt x="210525" y="48935"/>
                  <a:pt x="-1134" y="50073"/>
                  <a:pt x="4" y="47797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3"/>
          <p:cNvSpPr/>
          <p:nvPr/>
        </p:nvSpPr>
        <p:spPr>
          <a:xfrm>
            <a:off x="1527480" y="44197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4"/>
          <p:cNvSpPr/>
          <p:nvPr/>
        </p:nvSpPr>
        <p:spPr>
          <a:xfrm>
            <a:off x="1680120" y="54864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5"/>
          <p:cNvSpPr/>
          <p:nvPr/>
        </p:nvSpPr>
        <p:spPr>
          <a:xfrm>
            <a:off x="2291040" y="54100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5"/>
          <p:cNvSpPr/>
          <p:nvPr/>
        </p:nvSpPr>
        <p:spPr>
          <a:xfrm>
            <a:off x="2397240" y="5624640"/>
            <a:ext cx="546120" cy="772920"/>
          </a:xfrm>
          <a:custGeom>
            <a:avLst/>
            <a:gdLst/>
            <a:ahLst/>
            <a:rect l="l" t="t" r="r" b="b"/>
            <a:pathLst>
              <a:path w="252625" h="484797">
                <a:moveTo>
                  <a:pt x="0" y="0"/>
                </a:moveTo>
                <a:cubicBezTo>
                  <a:pt x="67708" y="72264"/>
                  <a:pt x="135416" y="144529"/>
                  <a:pt x="177520" y="225328"/>
                </a:cubicBezTo>
                <a:cubicBezTo>
                  <a:pt x="219624" y="306128"/>
                  <a:pt x="252625" y="484797"/>
                  <a:pt x="252625" y="484797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2"/>
          <p:cNvSpPr/>
          <p:nvPr/>
        </p:nvSpPr>
        <p:spPr>
          <a:xfrm>
            <a:off x="5807160" y="1676520"/>
            <a:ext cx="273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C – Northwest 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V – Northwest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I – Northwest 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MN – Rocky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CC – N. Calif. 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CV – N. Calif.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 – High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C – S. Calif. co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V – S. Calif.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W – Desert south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"/>
          <p:cNvSpPr/>
          <p:nvPr/>
        </p:nvSpPr>
        <p:spPr>
          <a:xfrm>
            <a:off x="2941560" y="3591000"/>
            <a:ext cx="2556000" cy="231840"/>
          </a:xfrm>
          <a:custGeom>
            <a:avLst/>
            <a:gdLst/>
            <a:ahLst/>
            <a:rect l="l" t="t" r="r" b="b"/>
            <a:pathLst>
              <a:path w="2555913" h="231354">
                <a:moveTo>
                  <a:pt x="0" y="0"/>
                </a:moveTo>
                <a:cubicBezTo>
                  <a:pt x="260732" y="46821"/>
                  <a:pt x="521465" y="93643"/>
                  <a:pt x="947450" y="132202"/>
                </a:cubicBezTo>
                <a:cubicBezTo>
                  <a:pt x="1373436" y="170761"/>
                  <a:pt x="2555913" y="231354"/>
                  <a:pt x="2555913" y="231354"/>
                </a:cubicBezTo>
                <a:lnTo>
                  <a:pt x="2555913" y="2313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"/>
          <p:cNvSpPr/>
          <p:nvPr/>
        </p:nvSpPr>
        <p:spPr>
          <a:xfrm>
            <a:off x="2016000" y="5013360"/>
            <a:ext cx="793800" cy="990720"/>
          </a:xfrm>
          <a:custGeom>
            <a:avLst/>
            <a:gdLst/>
            <a:ahLst/>
            <a:rect l="l" t="t" r="r" b="b"/>
            <a:pathLst>
              <a:path w="793939" h="991518">
                <a:moveTo>
                  <a:pt x="0" y="0"/>
                </a:moveTo>
                <a:cubicBezTo>
                  <a:pt x="29378" y="77118"/>
                  <a:pt x="58757" y="154236"/>
                  <a:pt x="176270" y="220337"/>
                </a:cubicBezTo>
                <a:cubicBezTo>
                  <a:pt x="293783" y="286438"/>
                  <a:pt x="602255" y="273585"/>
                  <a:pt x="705079" y="396607"/>
                </a:cubicBezTo>
                <a:cubicBezTo>
                  <a:pt x="807903" y="519629"/>
                  <a:pt x="793214" y="958467"/>
                  <a:pt x="793214" y="958467"/>
                </a:cubicBezTo>
                <a:lnTo>
                  <a:pt x="793214" y="958467"/>
                </a:lnTo>
                <a:lnTo>
                  <a:pt x="793214" y="958467"/>
                </a:lnTo>
                <a:lnTo>
                  <a:pt x="782197" y="991518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ubstation / Feeder Types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85800" y="2057400"/>
          <a:ext cx="7848720" cy="3429000"/>
        </p:xfrm>
        <a:graphic>
          <a:graphicData uri="http://schemas.openxmlformats.org/drawingml/2006/table">
            <a:tbl>
              <a:tblPr/>
              <a:tblGrid>
                <a:gridCol w="652320"/>
                <a:gridCol w="1436760"/>
                <a:gridCol w="1606680"/>
                <a:gridCol w="1530360"/>
                <a:gridCol w="1217520"/>
                <a:gridCol w="1405080"/>
              </a:tblGrid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er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us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ricul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40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 to 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 to 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2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 to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 to 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x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 to 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 to 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 to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7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ural Agricul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cec"/>
                    </a:solidFill>
                  </a:tcPr>
                </a:tc>
              </a:tr>
            </a:tbl>
          </a:graphicData>
        </a:graphic>
      </p:graphicFrame>
      <p:sp>
        <p:nvSpPr>
          <p:cNvPr id="412" name="TextBox 3"/>
          <p:cNvSpPr/>
          <p:nvPr/>
        </p:nvSpPr>
        <p:spPr>
          <a:xfrm>
            <a:off x="702360" y="579132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is energy, not custome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9:19Z</dcterms:created>
  <dc:creator>dnk2264</dc:creator>
  <dc:description/>
  <dc:language>en-US</dc:language>
  <cp:lastModifiedBy>Dmitry</cp:lastModifiedBy>
  <dcterms:modified xsi:type="dcterms:W3CDTF">2012-03-21T19:03:25Z</dcterms:modified>
  <cp:revision>200</cp:revision>
  <dc:subject/>
  <dc:title>WECC Modeling Workshop Load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C989AF7F9FDE42B97A01F60A2F42A9</vt:lpwstr>
  </property>
  <property fmtid="{D5CDD505-2E9C-101B-9397-08002B2CF9AE}" pid="3" name="_dlc_DocId">
    <vt:lpwstr>6WX55FZVFCVT-110-63</vt:lpwstr>
  </property>
  <property fmtid="{D5CDD505-2E9C-101B-9397-08002B2CF9AE}" pid="4" name="_dlc_DocIdItemGuid">
    <vt:lpwstr>efc8479d-5179-4424-b1a6-3e82d76e6517</vt:lpwstr>
  </property>
  <property fmtid="{D5CDD505-2E9C-101B-9397-08002B2CF9AE}" pid="5" name="_dlc_DocIdUrl">
    <vt:lpwstr>http://wise/_layouts/DocIdRedir.aspx?ID=6WX55FZVFCVT-110-63, 6WX55FZVFCVT-110-63</vt:lpwstr>
  </property>
</Properties>
</file>